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FC1A8-5340-4910-9188-A724E5C7F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762A7-F0ED-4B75-8879-394C74FD2B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824-F6F6-4352-BFC8-73674128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8F7-D14A-4139-8658-A442BA3F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F37-4628-43B6-BDF5-CA88072E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0B7-C6F3-486A-8AA3-8827654F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6D0-FDDA-4A1F-B701-1D1E8550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72D1-9DC8-472C-BF79-1C62FF3D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534-4B8D-4CCF-88EC-62691478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F3C-3737-4AA7-97FA-250C92C1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B44-2837-43FA-B87A-DA1889E2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9A8-0761-4072-B68D-B2736395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EDC-FB5F-4AC4-875E-6B4C2ECA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2F2-3F6B-490B-ACEE-4FB61DD5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E4528-E183-44B2-8C7E-A7574DA6F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4000" spc="-1" strike="noStrike">
                <a:solidFill>
                  <a:srgbClr val="000000"/>
                </a:solidFill>
                <a:latin typeface="Calibri"/>
              </a:rPr>
              <a:t>Напредна обука за компјутерски криминал за судии и обвинит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Сесија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 1.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(</a:t>
            </a: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Завршување на курс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и повратни информации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Намена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0464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Оваа сесија е изготвена да им овозможи на учесниците да дадат повратни информации за курсот и да му помогнат на инструкторот да увиди каде може да се направат евентуални подобрувања. Таа исто така служи инструкторот да направи рекапитулација на содржината на курсот со осврт на намената и целите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и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а крајот од оваа сесија учесниците ќе можа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дадат соодветни повратни информации за курсот и неговата ефективно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и пополнат обрасците на Советот на Европа за евалуација на курсо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о утврдат следното ниво на учење што треба да го преземат за да си ги подобрат знаењето и вештините на дадената тем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и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2508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На крајот од овој курс учесниците ќе бидат запознаени со прашањата релевантни во истрага на компјутерски криминал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Водење истраг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Утврдување на типот сторено дело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Утврдување локација на докази, сведоци и осомничени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Обезбедување докази на прифатлив начин, без оглед на тоа каде се чуваат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одготовка за претрес и заплена за електронски докази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со дигитални уреди што се дел од истрагата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Задача на вештите лица и други лица потребни за поддршка на фазата на истрага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одготовка за распит на осомничени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Изведување докази за компјутерски криминал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згледување на релевантните аспекти во судскиот процес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Распоред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ен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8080" y="1417320"/>
            <a:ext cx="8820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ретставување на курсот, инструкторот и сценариот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резентација – Подготвување истраг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3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во групи за утврдување дела, подготвување план за истрага и сценариот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уче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резентациј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Меѓународна соработ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во групи на меѓународна соработ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7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во групи за откривање сторител и планирање стратегија за апсењ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Распоред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ен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77560" y="1417680"/>
            <a:ext cx="86518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09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глед на Ден 1 – Информации за апсењето/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зентација – Дигитално вештаче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3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Работа во групи на дигитални докази, потреби од докази, осомничени, надлежност и меѓународни праша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Руче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зентациј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одготвување предмет за на су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Работа во групи за завршување на случајо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7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глед на случајот, интервенции од инструкторите и учесниците, евалуација, повратни информации и завршување на курсо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На крајот од оваа сесија учесниц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дадат соодветни повратни информации за курсот и неговата ефектив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пополнат обрасците на Советот на Европа за евалуација на кур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о утврдат следното ниво на учење што треба да го преземат за да си ги подобрат знаењето и вештините на дадената те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Резиме на целите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Nigel Jones</dc:creator>
  <dc:description/>
  <dc:language>en-US</dc:language>
  <cp:lastModifiedBy>Oliver</cp:lastModifiedBy>
  <dcterms:modified xsi:type="dcterms:W3CDTF">2013-08-15T21:19:32Z</dcterms:modified>
  <cp:revision>32</cp:revision>
  <dc:subject/>
  <dc:title>Introductory Cybercrime Training for Judges and Prosecutors</dc:title>
</cp:coreProperties>
</file>